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0D8CF-67AE-4DF3-BAB7-8E1FEE9191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_x0010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758F-0537-485F-BA64-5B79D03FE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40FC-E0E9-45CA-A3C3-14437A636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08BF-B0E6-42EE-91DE-5F1E3F94A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0F27-C9CB-47CB-B96B-95CFB1ED9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E6F53-D180-48DA-B18E-5EB161CE4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7495F-122F-4588-9A19-28AAE283C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033D7-3BBC-4BE3-B795-C5B299314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EDCDD-1350-49FB-A70A-F90FE2582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996BC-3AAB-4473-83DF-21488FC55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98D8A-E854-4EE8-8F95-C1DC721AA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BEB94-534E-4F63-B2CB-8DE92022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57E1-2E79-496E-9E0F-D9E68FB28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37D2F-2916-42B9-9ED3-02BE8E67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1A7B6-EA27-47FC-9F9F-4095E9FD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FAAFF-7E99-4006-BF87-DEEDD1411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5D809-CFA1-4BD4-AD84-93AD3C9E6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5108C-B916-4909-B4CA-874F01AA8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0139-60B0-4F33-AEB7-94B143C6E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EE50-38B7-4E0F-8B68-D1629C7C6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D23F-5B39-4146-91B3-602C39225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6A9F-E82D-4991-8D12-D147A1807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4B15-DDE5-49C3-9349-B757D4A9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E887-ADAB-4602-8BEB-88D48F25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B084-FD3B-49EF-8CF7-F027C218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460440" y="182844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90422-44A0-4298-960E-3727ED1B62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49" name="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2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332A8-935F-458E-9D76-2E87AEA0D574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google.com/analytics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google.com/adsense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ellarspot.com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adwords.google.com/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secstate.wa.gov/corps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washington.edu/computing/web/publishing/students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aking a Website Liv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ex Loddenga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lexloddengaard@gmail.co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http://www.alexloddengaard.co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E3466-CF99-41D8-A0AC-39D918ADD35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K, you’re liv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ine your web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6C849-3B4E-41C3-821F-A51AC1F1B5B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search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step to refinement is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will tell you more about the problem you’re sol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 your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 use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by interviewing, surveying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y opinion, Cellarspot was solving a fak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didn’t research en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didn’t know enough about wine connoiss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increases the likeliness of your website being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more fun when your website is used :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2EA6-25C9-4A14-A12F-3F02F778B86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ellarspot Focu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 focus was on func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’s make a website with awesome functionality; the look is less important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 focus was b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have focused on a core feature set with an attractive and grabbing l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e connoisseurs need attractive web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I done research upfront I would have known this earl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B976-97E8-45CC-B44B-DE143E5369F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ivac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upfront with your u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y your privacy policy in a “Terms”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ebook’s “Terms” page is ~8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itter had a big problem with this rec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nus screenshot from Faceboo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04920" y="4809960"/>
            <a:ext cx="8534160" cy="981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E42F-548D-44FF-9722-0159DDD5B8E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You got a good idea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k and evaluate your web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66600-4303-4958-AEF5-FEE41201084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ave you looked at the 190m source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s out Marty knows more about you than you think … he’s got Google Analy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6320" y="2895480"/>
            <a:ext cx="9067680" cy="121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C537-5D5F-44F2-AA7F-9E75957BB57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ogle Analytics (GA)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 up here: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www.google.com/analy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just install the JavaScript they give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 gives you insane statistics about your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590920" y="3962520"/>
            <a:ext cx="4190760" cy="253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F3C5-F7C2-48A7-94EB-B0B51A3A0B5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venue Mode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ome mo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CFCC4-8F0A-4055-B673-418B3170198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dvertisements on Your Sit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gle AdS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ically displays relevant 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d per click (usually ~$.10-3.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mizable look and f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fool with a website can install thes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 sign up and install the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www.google.com/ads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371600" y="5675400"/>
            <a:ext cx="6599160" cy="87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1C95-7EA9-46DB-878C-D02B9CD6416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ellarspot AdSense 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09480" y="2103480"/>
            <a:ext cx="8229600" cy="406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925E-70D0-4A02-862E-CB942B5BE01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bout M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iously a CSE 143/190L 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 Manager at Redf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d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www.cellarspo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network for wine connoiss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676520" y="4343400"/>
            <a:ext cx="5715000" cy="2492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84F3-1954-4089-AFE0-18C23A0CD9D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ferra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site owner gets commission from referred s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e-commerce sites offer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azon.com, Bestbuy.com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ission ranges between 5-1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for “Join Associates” on Amazon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1200-88F5-4DEA-B78C-8350FC21F60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ellarspot Referral 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79360" y="2438280"/>
            <a:ext cx="8712360" cy="311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342E-F1FA-4559-8B0B-600D18A69D0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-Marketing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7467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 your site and get users on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A2DEB-B8CD-4B34-B9EF-00CFBEEC3CB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Google AdWord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produce ads that show up as Google AdSense ads on relevant web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words can be purchased that make you the “sponsored link” on the Google search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per Click (CPC ~$.10-3.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adwords.googl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76320" y="5486400"/>
            <a:ext cx="8915400" cy="132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00F6-F63D-45F0-AA11-931169EB331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member those stupid &lt;meta&gt; tags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one really uses those, r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learn about SEO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3092-3840-48EB-B64C-455FA0C588C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ut firs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were Google, how would you determine if one website was better than ano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you determine the most popular person by what they say about themselv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5B4C-C19C-4329-921B-C2D187FD0DD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earch Engine Optimization (SEO)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ay your site performs in search eng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 more h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en.wikipedia.org/wiki/PageR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en.wikipedia.org/wiki/Nofol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en.wikipedia.org/wiki/Search_engine_opt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the appropriate &lt;meta&gt; t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ption, keywords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descriptive &lt;title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at Amazon’s title -- it’s hu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85A8-F48A-4CA6-B25F-E6CCEC9A7C3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O (cont.)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each search engine’s 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s, they specify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google.com/support/webmaster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mporta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people to link to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bloggers to blog about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gle likes blog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8FC1-9F02-49E9-ABEE-4A599D36F0E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ogle PageRank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bbles are websites, arrows are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752480" y="2590920"/>
            <a:ext cx="4648320" cy="374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E7F3-38FF-4724-8E1B-D8E7F3A1AFF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O (cont.)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 your website will be keyworded based on the anchor text of incoming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keyworded by &lt;title&gt;, &lt;meta&gt; and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rcRect l="0" t="0" r="35833" b="0"/>
          <a:stretch/>
        </p:blipFill>
        <p:spPr>
          <a:xfrm>
            <a:off x="0" y="5105520"/>
            <a:ext cx="9144000" cy="13683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54080" y="4648320"/>
            <a:ext cx="228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er of Trulia.co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0A35-21F0-4A3C-9CFE-0A0FEB66972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Cellarspo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network for wine connoiss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te notes, collections, friends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wrote the whole site 3 times in a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HP at first, then two rewrites in JSP (Ja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my first money-making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in your shoes when I sta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t the idea from my Dad; I don’t like w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6D29-5F23-4F16-8771-1ED0A554D0F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ogle Bom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fore Google got smart, they keyworded mostly by ancho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ggers linked to whitehouse.gov/president with anchor text “miserable failur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gleing “miserable failure” showed whitehouse.gov/president as the first l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gle has since fixed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en.wikipedia.org/wiki/Google_bom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3781-4C48-40A4-95F4-77E5E281F63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Useful SEO too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gle Webmast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google.com/webma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ful information about your site in Google’s search eng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371600" y="4044960"/>
            <a:ext cx="6248520" cy="266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5027-DC81-4526-9552-F4A0DB60CA6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your own site is an indefinite su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arspot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n’t make much mo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used in every single one of my interviews at Google, Redfin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prominently on my res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a great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insanely excit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252E-8DFE-4968-B4B0-1770D3D58A7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arsp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web develop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b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CC03-7D1E-4B20-99FB-B33A85AA428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verflo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FE270-5BEA-4657-8320-BEC08409E81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ellarspot in Academic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sued in 4 different classes (15 credi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E 403 - Software Engineering (4 credi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SE major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portunity to work on a larg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olutely recommended (esp. with Mar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E 475/476 - Planning a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credits e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ct John Castle (castlej@u) if intere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olutely recomme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E 490H - Distributed Systems (3 credi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SE major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39CE-36DD-44B0-A55E-27DF50602AF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egal Inf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get shutdown or su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7F686-A4B2-4F17-BA26-7DD9A50A6E0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ntellectual Proper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yright 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es ownership of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ages, reviews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emark 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es exclusive usage of a logo, name, or phr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es ownership and exclusive usage of a product, algorithm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complic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EC45-3B89-4282-AD2D-0591CFDDBD7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pyrigh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violat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use someone else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snipp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less the license agreement says you 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ther data on any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yrights don’t need to be speci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im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3A9E-13AD-465B-ACFC-E314F97E0FD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 Yourself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n individual running a website, your private assets are not pro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 your private assets by ei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ing a  Limited Liability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oming incorpor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ent on the state you operate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www.secstate.wa.gov/corp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robably isn’t necessary unless you’re doing something that might be borderline illeg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9150-161F-4E80-B1D0-C619591862B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ough about M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talk about you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680ED-0162-4F04-BC70-6651195E8A3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ftware Developmen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good code dec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make improving / fixing your code MUCH eas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o build a team of developers, because multiple heads are better than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CSE 4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1770-6CA6-4A22-AD7A-35B4EB7CF25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’s after 190m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ster is shutting down at end of qua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will you continue to tink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your UW student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www.washington.edu/computing/web/publishing/students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ll MySQL on D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washington.edu/computing/web/publishing/mysql-install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it http://students.washington.edu/youruwnet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setup PHP, Apache, MySQL on your 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408E-A275-4476-812A-AC5BD4937EB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f you want more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f you want your own .com na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f you want to make some mone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f you want to take web development to the next lev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2817-194A-41CB-89E1-69E80F1F901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Truth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ap between a legitimate website and a personal project is small 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is the beauty of the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of you are capable of making something that people will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arspo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ebook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emberthemilk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aigslis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aganda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ebsites that started off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E8C1-80E5-4F2D-B528-89E1C746DE4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Next Level is Hosting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y a domain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martystepp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y web space from a hosting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provide you with PHP, MySQL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buy a domain name and web space from the sam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compan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eamhost.com (Marty’s recommend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daddy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sthos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gsix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9C24-403A-4DFB-9D09-A0ED5269E06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osting Gotcha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that your host provides the services you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hosts only provide PHP + My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nly provide Ruby on Rails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stop shops are conven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y the domain and web space from the sam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eamhost is awe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ex Loddengaar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B630-B062-4050-B0B3-20F6002FB61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4/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3T21:17:58Z</dcterms:created>
  <dc:creator>Office 2004 Test Drive User</dc:creator>
  <dc:description/>
  <dc:language>en-US</dc:language>
  <cp:lastModifiedBy>Registered User</cp:lastModifiedBy>
  <dcterms:modified xsi:type="dcterms:W3CDTF">2008-06-04T21:13:09Z</dcterms:modified>
  <cp:revision>151</cp:revision>
  <dc:subject/>
  <dc:title>PowerPoint Presentation</dc:title>
</cp:coreProperties>
</file>